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B099-615C-4C3A-9936-6C753EE3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9708-D38A-4153-8A1A-A54B7833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6FED-F34B-43B4-8CB9-66BE0497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ED91-ADF3-48AF-B0A5-3AE48429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ADD9-702F-43E1-A4F6-75341D44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108B-AB63-450D-B40D-B2EFCF3F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5131-A659-415E-BCF6-92580873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7A64-C65A-4D5E-B767-AB7102A5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28EF-6792-44B1-A4F8-BBCD8591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CDB1-EF32-4175-A69A-D4920CF4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F5B6-BCF5-4F23-8917-C5D5C845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A56C-8427-437E-855A-5890D041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547C-CA73-4419-83B7-F7BE34621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462480" cy="6856560"/>
          </a:xfrm>
          <a:custGeom>
            <a:avLst/>
            <a:gdLst/>
            <a:ahLst/>
            <a:rect l="l" t="t" r="r" b="b"/>
            <a:pathLst>
              <a:path w="2181" h="4319">
                <a:moveTo>
                  <a:pt x="0" y="0"/>
                </a:moveTo>
                <a:lnTo>
                  <a:pt x="2" y="4319"/>
                </a:lnTo>
                <a:lnTo>
                  <a:pt x="1974" y="4319"/>
                </a:lnTo>
                <a:lnTo>
                  <a:pt x="1896" y="3974"/>
                </a:lnTo>
                <a:cubicBezTo>
                  <a:pt x="1870" y="3848"/>
                  <a:pt x="1843" y="3731"/>
                  <a:pt x="1818" y="3560"/>
                </a:cubicBezTo>
                <a:cubicBezTo>
                  <a:pt x="1793" y="3389"/>
                  <a:pt x="1764" y="3134"/>
                  <a:pt x="1747" y="2945"/>
                </a:cubicBezTo>
                <a:cubicBezTo>
                  <a:pt x="1730" y="2756"/>
                  <a:pt x="1720" y="2606"/>
                  <a:pt x="1715" y="2427"/>
                </a:cubicBezTo>
                <a:cubicBezTo>
                  <a:pt x="1710" y="2248"/>
                  <a:pt x="1705" y="2051"/>
                  <a:pt x="1715" y="1870"/>
                </a:cubicBezTo>
                <a:cubicBezTo>
                  <a:pt x="1725" y="1689"/>
                  <a:pt x="1739" y="1535"/>
                  <a:pt x="1773" y="1340"/>
                </a:cubicBezTo>
                <a:cubicBezTo>
                  <a:pt x="1807" y="1145"/>
                  <a:pt x="1854" y="922"/>
                  <a:pt x="1922" y="699"/>
                </a:cubicBezTo>
                <a:lnTo>
                  <a:pt x="2181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111240" y="-1440"/>
            <a:ext cx="9258480" cy="2084400"/>
          </a:xfrm>
          <a:custGeom>
            <a:avLst/>
            <a:gdLst/>
            <a:ahLst/>
            <a:rect l="l" t="t" r="r" b="b"/>
            <a:pathLst>
              <a:path w="5826" h="1313">
                <a:moveTo>
                  <a:pt x="66" y="0"/>
                </a:moveTo>
                <a:lnTo>
                  <a:pt x="5826" y="0"/>
                </a:lnTo>
                <a:lnTo>
                  <a:pt x="5826" y="1313"/>
                </a:lnTo>
                <a:lnTo>
                  <a:pt x="5703" y="1287"/>
                </a:lnTo>
                <a:cubicBezTo>
                  <a:pt x="5478" y="1240"/>
                  <a:pt x="5013" y="1117"/>
                  <a:pt x="4473" y="1029"/>
                </a:cubicBezTo>
                <a:cubicBezTo>
                  <a:pt x="3933" y="941"/>
                  <a:pt x="3047" y="830"/>
                  <a:pt x="2461" y="757"/>
                </a:cubicBezTo>
                <a:cubicBezTo>
                  <a:pt x="1875" y="684"/>
                  <a:pt x="1344" y="629"/>
                  <a:pt x="959" y="589"/>
                </a:cubicBezTo>
                <a:cubicBezTo>
                  <a:pt x="574" y="549"/>
                  <a:pt x="298" y="534"/>
                  <a:pt x="149" y="517"/>
                </a:cubicBezTo>
                <a:cubicBezTo>
                  <a:pt x="0" y="500"/>
                  <a:pt x="79" y="570"/>
                  <a:pt x="65" y="484"/>
                </a:cubicBezTo>
                <a:lnTo>
                  <a:pt x="66" y="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56080" y="110160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j0261032" descr=""/>
          <p:cNvPicPr/>
          <p:nvPr/>
        </p:nvPicPr>
        <p:blipFill>
          <a:blip r:embed="rId2"/>
          <a:srcRect l="10645" t="0" r="0" b="19147"/>
          <a:stretch/>
        </p:blipFill>
        <p:spPr>
          <a:xfrm>
            <a:off x="5486400" y="0"/>
            <a:ext cx="3657600" cy="1447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30960" y="132084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15200" y="160020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7840" y="1996920"/>
            <a:ext cx="2398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39960" y="2709720"/>
            <a:ext cx="23781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4840" y="76680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6840" y="201456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6840" y="184320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1280" y="272412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255276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15240" y="327672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5T03:36:09Z</dcterms:created>
  <dc:creator>Mark Finocchio</dc:creator>
  <dc:description/>
  <dc:language>en-US</dc:language>
  <cp:lastModifiedBy>Mark Finocchio</cp:lastModifiedBy>
  <dcterms:modified xsi:type="dcterms:W3CDTF">2000-05-07T02:43:03Z</dcterms:modified>
  <cp:revision>10</cp:revision>
  <dc:subject/>
  <dc:title>PowerPoint Presentation</dc:title>
</cp:coreProperties>
</file>